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2.jpeg" ContentType="image/jpeg"/>
  <Override PartName="/ppt/media/image3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38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4AA2E-F1AE-4B0A-B53E-C8E5A6D9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0FDC1-FC8E-4843-B663-3A1FBE15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100AF-2188-4049-9D17-3F98F08C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6E3F-7F59-476A-B27D-6C3BC4BD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401F-0ADE-4589-B105-D614AAD9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253B-63ED-48A5-805C-36023986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D5F0-4B7F-40D2-9A45-C9E467FC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8EA5-123E-4E91-BF70-B53EC781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80FA-772F-48C8-B6CE-21EE7E1F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0CB9-BB55-457F-9C01-26D8E263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1024-E32C-43A5-A1C5-470C59A1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F7E5E-4F32-49BF-AED1-D840B64C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1B87-62E7-401F-91CE-9921895C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FAA3-DA00-493C-8FF8-76B9F8FB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83DF-8C25-4B75-A86E-3BA354C0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1B28-0C79-44D5-B587-48CC129D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A212-3928-441C-AA42-495D58C5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9493C-6C47-4798-A108-722C6DF3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05D86-A48C-4CE3-9829-2A504C22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C016-443D-4AA2-BA98-5E8C9141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7DDC-CD5E-4A86-B0DC-7A8FA799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13944-8973-4A4A-B540-481E889C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46AA2-B8E5-4C1D-BF32-20A4F042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CEEAB-914E-4811-AB83-E71CAF47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C3A0-EC91-4C3C-82FD-684653A73D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3BC4-1CB4-4110-AFC9-2B70239A04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E4668aarck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hemical Reac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emical rea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 process which atoms of one or more substances rearrange to for a different subs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idence for a chemical reaction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in temperature (exo/en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in co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arance of 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e of these alone proves that such a change occurs because some physical changes involve one or more of these sig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Arial"/>
              </a:rPr>
              <a:t>Balancing Chemical Equation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9480" y="1066680"/>
            <a:ext cx="76964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 the equation that represents breaking down carbonic acid into water and carbon diox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315200" cy="79848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1965600" y="3749760"/>
            <a:ext cx="480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it a balanced equ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Arial"/>
              </a:rPr>
              <a:t>Balancing Chemical Equation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33520" y="838080"/>
            <a:ext cx="73152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ine the equation for the formation of sodium carbonate and water from the reaction between sodium hydroxide and carbon diox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8217000" cy="6476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380880" y="3505320"/>
            <a:ext cx="81536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quation, as written, does not truly represent the reaction because it does not show conservation of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Arial"/>
              </a:rPr>
              <a:t>Balancing Chemical Equation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3520" y="990720"/>
            <a:ext cx="761976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dicate more than one unit taking part or being formed in a reaction, a number called a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efficien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placed in front of it to indicate how many units are invol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304920" y="3200400"/>
            <a:ext cx="8216640" cy="6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282  10-1,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282  #5,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283  #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219320" y="15238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Types of Chemical rea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061280" y="228600"/>
            <a:ext cx="66639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spcAft>
                <a:spcPts val="1100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Major Classes of Re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80880" y="990720"/>
            <a:ext cx="80010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ever two or more substances combine to form a single product, the reaction is called a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ynthesis reactio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788184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213920" y="228600"/>
            <a:ext cx="66639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spcAft>
                <a:spcPts val="1100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Major Classes of Re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33520" y="838080"/>
            <a:ext cx="815328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composition rea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 compound breaks down into two or more simpler subst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79581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1222920" y="0"/>
            <a:ext cx="60649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Major Classes of Rea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609480"/>
            <a:ext cx="914400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ingle-displacement rea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one element takes the place of another in a comp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1828800"/>
            <a:ext cx="9448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ment can replace the first part of a compound, or it can replace the last part of a comp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848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ype Single Replacement Rx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l replaces Hydro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(s) + 2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l)         2LiOH(aq) 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l replaces me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(s) + 2Ag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         2Ag(s)+Cu(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aq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metal replace nonme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+ 2NaBr(aq)         2NaF(aq) + B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62520" y="1905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114800" y="36576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962520" y="54864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2056320" y="152280"/>
            <a:ext cx="5142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spcAft>
                <a:spcPts val="1100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Chemical Equ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33520" y="990720"/>
            <a:ext cx="800100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ubstance that undergoes a reaction is called a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acta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" y="2209680"/>
            <a:ext cx="769608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reactants undergo a chemical change, each new substance formed is called a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duc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3962520"/>
            <a:ext cx="7696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implest reactions involve a single reactant or a single product, but some reactions involve many reactants and many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4114800" y="0"/>
            <a:ext cx="4251240" cy="662940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305280" y="304920"/>
            <a:ext cx="33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ity S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-2880" y="1219320"/>
            <a:ext cx="384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do you know if a re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l happ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2880" y="2336760"/>
            <a:ext cx="358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active will replace l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1213920" y="0"/>
            <a:ext cx="66639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spcAft>
                <a:spcPts val="1100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Major Classes of Re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33520"/>
            <a:ext cx="914400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uble-displacement reacti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positive ions of two ionic compounds are interchang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04920" y="1676520"/>
            <a:ext cx="81532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a double-displacement reaction to take place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 least one of the products must be a precipitate (formation of a solid) or wat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807732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8188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1213920" y="228600"/>
            <a:ext cx="66639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spcAft>
                <a:spcPts val="1100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Major Classes of Re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57200" y="990720"/>
            <a:ext cx="838188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bustion rea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one in which a substance rapidly combines with oxygen to form one or more oxi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80866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380880" y="272880"/>
            <a:ext cx="83059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What Class of Chemical Reaction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80880" y="762120"/>
            <a:ext cx="78487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iron rusts, iron metal and oxygen gas combine to form one new substance, iron(III) ox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76920" cy="54288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457200" y="3124080"/>
            <a:ext cx="81532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mmonium nitrate is heated to a high temperature, it explosively breaks down into dinitrogen monoxide and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762120" y="4724280"/>
            <a:ext cx="758196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What Class of Chemical Reaction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8600" y="762120"/>
            <a:ext cx="81532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n iron nail is placed into an aqueous solution of copper(II) sulfate, copper metal forms on the na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7950240" cy="60156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04920" y="3124080"/>
            <a:ext cx="83818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queous solutions of lead(II) nitrate and potassium iodine are mixed, a reaction takes place and a yellow solid appears in the mix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457200" y="4724280"/>
            <a:ext cx="812808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What Class of Chemical Reaction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33520" y="9144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welding is done with an acetylene torch, acetylene combines with oxygen to form carbon dioxide and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57200" y="24382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reaction is exothermic, and enough energy is released to melt met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4408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285 #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286  #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289  #10-2, 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291   #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285 #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286 #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289  #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291  #25, 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445040" y="228600"/>
            <a:ext cx="6555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spcAft>
                <a:spcPts val="1100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Word Chemical Equ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3520" y="914400"/>
            <a:ext cx="8001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implest way to represent a reaction is by using words to describe all the reactants and products, with an arrow placed between them to represent 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33520" y="28195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ctants are placed to the left of the arrow, and products are placed to the r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33520" y="38098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us signs are used to separate reactants and also to separate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52280" y="5029200"/>
            <a:ext cx="899172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Aqueous Solution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homogeneous mixture which contains one or more substances called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lu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issolved in the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lve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queous Solu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one in which the solvent is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Aqueous Solution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solutes (i.e. table sugar/sucrose) are molecular compounds that exist as molecules in aqueous solu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solutes are molecular compounds which form ions in aqueous solu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.e.  HCl(g)      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q) + C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onic compounds may also be solutes in aqueous solutions in which case the ions sepa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.e. NaOH(aq)        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q) + 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queous solutions that contain ions are mixed, the ions may react in a double-replacement re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048120" y="28954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581280" y="42670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600200" y="679320"/>
            <a:ext cx="6858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54320" y="304920"/>
            <a:ext cx="76910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spcAft>
                <a:spcPts val="1100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Times New Roman"/>
              </a:rPr>
              <a:t>Reactions in Aqueous Solu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990720"/>
            <a:ext cx="80010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example of a double-replacement reaction that produces a precipitate occurs when aqueous solutions of sodium chloride and silver nitrate are mixed to form a precipitate of solid silver chlor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8239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600200" y="679320"/>
            <a:ext cx="6858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838080" y="228600"/>
            <a:ext cx="7326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Times New Roman"/>
              </a:rPr>
              <a:t>Reactions in Aqueous Solu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57200" y="762120"/>
            <a:ext cx="8001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how all of the particles in solution as they really exist, a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mplete ionic equ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an be writt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33520" y="28954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odium and nitrate ions are on both sides of the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33520" y="3886200"/>
            <a:ext cx="800100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h ions that do not participate in a reaction are called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tator i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2296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1600200" y="679320"/>
            <a:ext cx="6858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919080" y="0"/>
            <a:ext cx="6995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actions in Aqueous Solu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33520" y="762120"/>
            <a:ext cx="754380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ionic equation that does not show spectator ions but only the particles that participate in a reaction is called a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t ionic equ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33520" y="27432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case of the previous reaction, the net ionic equation from which the sodium and nitrate ions have been removed is as fol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1295280" y="4419720"/>
            <a:ext cx="640080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1600200" y="679320"/>
            <a:ext cx="6858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830240" y="228600"/>
            <a:ext cx="4930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ef6"/>
                </a:solidFill>
                <a:latin typeface="Times New Roman"/>
              </a:rPr>
              <a:t>Writing Ionic Equ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80880" y="838080"/>
            <a:ext cx="83822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chemical equation for the reaction between aqueous solutions of strontium nitrate and potassium sulfate, which forms the precipitate strontium sulf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33520" y="36576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coefficients to produce the balanced chemical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429680" cy="43632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533520" y="4800600"/>
            <a:ext cx="791532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1600200" y="679320"/>
            <a:ext cx="6858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677960" y="0"/>
            <a:ext cx="4930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ef6"/>
                </a:solidFill>
                <a:latin typeface="Times New Roman"/>
              </a:rPr>
              <a:t>Writing Ionic Equ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33520" y="609480"/>
            <a:ext cx="6858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the complete ionic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153640" cy="973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57200" y="236232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out the spectator ions, which are those that are on both sides of the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33520" y="4038480"/>
            <a:ext cx="8153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t leaves the net ionic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8229600" cy="35244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660384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600200" y="679320"/>
            <a:ext cx="6858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993240" y="152280"/>
            <a:ext cx="6960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ef6"/>
                </a:solidFill>
                <a:latin typeface="Times New Roman"/>
              </a:rPr>
              <a:t>Reactions that form Water or  G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57200" y="990720"/>
            <a:ext cx="76201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double-replacement reactions in aqueous solution produce water or a gas (or both) rather than a precipit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33520" y="256536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such cases, the water or gas is shown as a product in the net ionic equation, as are the ions that produced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33520" y="393696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maining ions are eliminated as spectator 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Reactions that form Water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33520" y="1066680"/>
            <a:ext cx="8001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hydrochloric acid and potassium hydroxide solutions are mixed, water results, together with an aqueous solution of potassium chlor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3520" y="3048120"/>
            <a:ext cx="7696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lanced chemical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78868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Reactions that form Wat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33520" y="9907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lete ionic equation, which includes all of the 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33520" y="26668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ove the spectator ions to produce the net ionic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229600" cy="38088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1676520" y="3809880"/>
            <a:ext cx="5994360" cy="6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hemical Equa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 equations can be converted into chemical equations by substituting chemical formulas for the names of compounds and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57200" y="2895480"/>
            <a:ext cx="76201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quation for the reaction of vinegar and baking soda can be written using the chemical formulas of the reactants and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914400" y="4876920"/>
            <a:ext cx="7391520" cy="53316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609480" y="5562720"/>
            <a:ext cx="807732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actions that form a G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chloric acid and aqueous sodium cyanide, with production of hydrogen cyanide gas (HC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84360" y="4408560"/>
            <a:ext cx="7559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7194600" cy="47124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8277120" cy="36216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>
            <a:off x="1752480" y="5105520"/>
            <a:ext cx="5702400" cy="57600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3657600" y="2286000"/>
            <a:ext cx="18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mic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971800" y="34290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ionic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657240" y="4572000"/>
            <a:ext cx="17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 ionic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294 #10-3, 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296 # 10-4, 3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299 #10-5, 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85800" y="121932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g 294 # 34, 3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g 296 # 39, 4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g 299  # 4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blems you should know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304-306  #65, 71-1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307  #1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827360" y="0"/>
            <a:ext cx="50162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spcAft>
                <a:spcPts val="1100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Chemical Equ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33520" y="83808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y also be important to know the physical state of each reactant and produ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33520" y="1828800"/>
            <a:ext cx="8229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mbols in the parentheses are put after formulas to indicate the state of the subst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33520" y="2971800"/>
            <a:ext cx="8229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ids, liquids, gases, and water (aqueous) solutions are indicated by the symbols (s), (l), (g), and (aq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457200" y="4572000"/>
            <a:ext cx="830592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686800" cy="60984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868680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457200" y="228600"/>
            <a:ext cx="793260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spcAft>
                <a:spcPts val="1100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Energy and Chemical Equ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3520" y="990720"/>
            <a:ext cx="7696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iceable amounts of energy are often released (exothermic) or absorbed (endothermic) during a chemical reaction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80880" y="2133720"/>
            <a:ext cx="815364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riting a chemical equation for a reaction that produces energy, the wor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sometimes written along with the products. For a reaction that absorbs energy, the wor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sometimes written along with the reactants in the chemical equ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838080" y="4038480"/>
            <a:ext cx="7162920" cy="6667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82551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1069560" y="0"/>
            <a:ext cx="6869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Balancing Chemical Equ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28600" y="762120"/>
            <a:ext cx="8610480" cy="25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ss of the products is always the same as the mass of the reactants that react to form th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law of Conservation of Mas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ter is neither created nor destroyed during a chemical rea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28600" y="3429000"/>
            <a:ext cx="8915400" cy="30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at atoms don’t change in a chemical reaction; they just rearrange. The number and kinds of atoms present in the reactants of a chemical reaction are the same as those present in the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Law of Conservation of Ato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Arial"/>
              </a:rPr>
              <a:t>Balancing Chemical Equation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 chemical equation to accurately represent a reaction, the same number of each kind of atom must be on the left side (reactants) of the arrow as are on the right side (product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n equation follows the law of conservation of atoms, it is said to be a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alanced equatio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2T21:14:15Z</dcterms:created>
  <dc:creator>dangelo</dc:creator>
  <dc:description/>
  <dc:language>en-US</dc:language>
  <cp:lastModifiedBy>dangelo</cp:lastModifiedBy>
  <cp:lastPrinted>2007-11-25T19:18:39Z</cp:lastPrinted>
  <dcterms:modified xsi:type="dcterms:W3CDTF">2010-10-25T18:09:42Z</dcterms:modified>
  <cp:revision>74</cp:revision>
  <dc:subject/>
  <dc:title>Chemistry</dc:title>
</cp:coreProperties>
</file>